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3967-AE8A-4360-947B-4F6B7CF24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176A-7B0B-431C-9A6F-A812FD119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CD9D-2F87-4926-AEFC-1D3613B8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DB88-5A46-419F-B8C2-22A1D0344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45C3-D67D-4289-9702-24F9B1D5E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1118-C601-4F44-96FD-D375ACB01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4F3D-B3FC-459F-9D77-C225CADBF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9A30-891D-4495-9D81-857134ECA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E1A6-D84B-40C9-B3E2-109A2D560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8A1D-AB44-46DA-870D-F92998721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E840-EF63-4B25-B075-6C9D7A4FB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9C7F-BED0-4927-9E79-9BE75F739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5E88-CF54-450C-B703-09F78AA52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6B7C-CD96-4E0E-B8FE-60517C275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C10-25DA-4197-A258-762CE57E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3CD-B3F7-4311-A08D-C7967723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271-6CF0-4CC6-9E8E-FD43A1BF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F7E-003E-4D2A-BD33-68911FED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444-128B-40E9-92A6-4EA3E643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3C6-1ABA-47DD-B0C5-2EA5505E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84D-429F-476D-828C-4E2DEBB5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2DA-E109-4897-B620-4F65BDD4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89A-015A-478A-995E-5BBB0A82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371-5ADB-4E7E-91D0-9856A755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36B-37C2-4B53-8FD5-8E1C275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8FC-7894-45D6-8985-D4483402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973B-B2EF-44B5-8CD5-5481347AF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2193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Vocabulai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eçon 11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es Fê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502920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5707800" y="2666880"/>
            <a:ext cx="20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mitié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Childhood-Friends.jpg"/>
          <p:cNvPicPr/>
          <p:nvPr/>
        </p:nvPicPr>
        <p:blipFill>
          <a:blip r:embed="rId2"/>
          <a:stretch/>
        </p:blipFill>
        <p:spPr>
          <a:xfrm>
            <a:off x="304920" y="533520"/>
            <a:ext cx="3895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5701680" y="2666880"/>
            <a:ext cx="2084040" cy="7034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amou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on amour.gif"/>
          <p:cNvPicPr/>
          <p:nvPr/>
        </p:nvPicPr>
        <p:blipFill>
          <a:blip r:embed="rId2"/>
          <a:stretch/>
        </p:blipFill>
        <p:spPr>
          <a:xfrm>
            <a:off x="457200" y="609480"/>
            <a:ext cx="4965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6781680" y="2514600"/>
            <a:ext cx="2210040" cy="1312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mari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OfficialRoyalWedding_Images_043011.jpg"/>
          <p:cNvPicPr/>
          <p:nvPr/>
        </p:nvPicPr>
        <p:blipFill>
          <a:blip r:embed="rId2"/>
          <a:stretch/>
        </p:blipFill>
        <p:spPr>
          <a:xfrm>
            <a:off x="304920" y="762120"/>
            <a:ext cx="66038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6400800" y="2438280"/>
            <a:ext cx="245268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 div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le-divorce_movie.jpg"/>
          <p:cNvPicPr/>
          <p:nvPr/>
        </p:nvPicPr>
        <p:blipFill>
          <a:blip r:embed="rId2"/>
          <a:stretch/>
        </p:blipFill>
        <p:spPr>
          <a:xfrm>
            <a:off x="965160" y="692280"/>
            <a:ext cx="38098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6270120" y="2895480"/>
            <a:ext cx="159048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vi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64439-b-la-vie-est-belle.jpg"/>
          <p:cNvPicPr/>
          <p:nvPr/>
        </p:nvPicPr>
        <p:blipFill>
          <a:blip r:embed="rId2"/>
          <a:stretch/>
        </p:blipFill>
        <p:spPr>
          <a:xfrm>
            <a:off x="457200" y="99072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6869520" y="2438280"/>
            <a:ext cx="18021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coffiniphone_w606w.jpg"/>
          <p:cNvPicPr/>
          <p:nvPr/>
        </p:nvPicPr>
        <p:blipFill>
          <a:blip r:embed="rId2"/>
          <a:stretch/>
        </p:blipFill>
        <p:spPr>
          <a:xfrm>
            <a:off x="533520" y="304920"/>
            <a:ext cx="6273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ments importants de la 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naissance-t6499.jpg"/>
          <p:cNvPicPr/>
          <p:nvPr/>
        </p:nvPicPr>
        <p:blipFill>
          <a:blip r:embed="rId2"/>
          <a:stretch/>
        </p:blipFill>
        <p:spPr>
          <a:xfrm>
            <a:off x="380880" y="1219320"/>
            <a:ext cx="5029200" cy="4743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818320" y="2819520"/>
            <a:ext cx="291780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naiss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6869520" y="2438280"/>
            <a:ext cx="18021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m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offiniphone_w606w.jpg"/>
          <p:cNvPicPr/>
          <p:nvPr/>
        </p:nvPicPr>
        <p:blipFill>
          <a:blip r:embed="rId2"/>
          <a:stretch/>
        </p:blipFill>
        <p:spPr>
          <a:xfrm>
            <a:off x="533520" y="304920"/>
            <a:ext cx="62737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 début de la vie, il y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630840" y="2819520"/>
            <a:ext cx="236628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’enf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hildhood-image.jpg"/>
          <p:cNvPicPr/>
          <p:nvPr/>
        </p:nvPicPr>
        <p:blipFill>
          <a:blip r:embed="rId2"/>
          <a:stretch/>
        </p:blipFill>
        <p:spPr>
          <a:xfrm>
            <a:off x="0" y="1523880"/>
            <a:ext cx="611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5909040" y="2819520"/>
            <a:ext cx="27363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vieill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9" descr="old-couple"/>
          <p:cNvPicPr/>
          <p:nvPr/>
        </p:nvPicPr>
        <p:blipFill>
          <a:blip r:embed="rId2"/>
          <a:stretch/>
        </p:blipFill>
        <p:spPr>
          <a:xfrm>
            <a:off x="609480" y="13716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6324480" y="2666880"/>
            <a:ext cx="24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jeun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jeunesse11.jpg"/>
          <p:cNvPicPr/>
          <p:nvPr/>
        </p:nvPicPr>
        <p:blipFill>
          <a:blip r:embed="rId2"/>
          <a:stretch/>
        </p:blipFill>
        <p:spPr>
          <a:xfrm>
            <a:off x="990720" y="1295280"/>
            <a:ext cx="416556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5909040" y="2819520"/>
            <a:ext cx="273636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vieilles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9" descr="old-couple"/>
          <p:cNvPicPr/>
          <p:nvPr/>
        </p:nvPicPr>
        <p:blipFill>
          <a:blip r:embed="rId2"/>
          <a:stretch/>
        </p:blipFill>
        <p:spPr>
          <a:xfrm>
            <a:off x="609480" y="137160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23:13:46Z</dcterms:created>
  <dc:creator>Mr. Smith</dc:creator>
  <dc:description/>
  <dc:language>en-US</dc:language>
  <cp:lastModifiedBy>Viviane Grebert</cp:lastModifiedBy>
  <cp:lastPrinted>2010-10-09T16:46:10Z</cp:lastPrinted>
  <dcterms:modified xsi:type="dcterms:W3CDTF">2011-10-24T21:56:54Z</dcterms:modified>
  <cp:revision>80</cp:revision>
  <dc:subject/>
  <dc:title>La Touraine</dc:title>
</cp:coreProperties>
</file>